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430-44C4-45BE-B718-C647B55A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A9C-5A8E-4E1C-9195-5A68D229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8DAC-EC0B-4193-B621-8BC17383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5F72-848E-420D-AAF2-580FE03B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F085-86A0-448A-BCF5-D795496A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C187-5FB6-4BF4-815C-1253419F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BEB0-1EB9-4825-826A-2F04C399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7FEE-04CC-441F-917E-8EB47AFD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A1EF-2602-42D7-A63C-1E03B664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732C-57C0-4895-BE2B-945248D0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81F4-0F9E-4BA0-A882-EE610EF0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277-9015-4E5B-9BFA-11B4907B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22B4-A74C-4415-8B1C-F00C9DD8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36E4-9A70-4DA5-AB0F-5F5240F0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118C-DFF2-43D8-B509-4F899439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4F29-2831-41A3-A284-44850900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505E-DE8A-4766-8B27-79C83BAD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B825-BAC7-4EFB-B63C-A98DBB0B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F98-77C5-4BF8-8219-78BEA245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F606-055B-4E1A-BD9A-7BBEA18F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E5A-DA1D-4BFE-BD25-576774B5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FB6-70B6-498B-AAA0-7FF2639A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EA48-1B29-4E05-9F32-4FEB3178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91F-F486-4D0F-959D-25229C00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4AD7-24FC-48BB-BA14-E174181E5E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024E-E521-4488-BADC-4D4EA501584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cecff"/>
                </a:solidFill>
                <a:latin typeface="Arial"/>
              </a:rPr>
              <a:t>Ліцензування діяльності з торгівлі цінними паперам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850920" y="3886200"/>
            <a:ext cx="460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Устенко Ірина Ігорі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аступник директора департаменту регулювання діяльності торговців цінними паперами та фондових бірж НКЦПФ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08000" y="82440"/>
            <a:ext cx="1779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87120" y="277920"/>
            <a:ext cx="6799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Ліцензування діяльності з торгівлі цінними папера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8000" y="148428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У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ід 04.07.2012 №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042-VI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рикінцеві та перехідні положення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, п. 5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проф. учасники зі строковими ліцензіями провадять діяльність до закінчення строку їх дії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після закінчення строку – за умови отримання нової безстрокової ліцензії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проф. учасники з безстроковою ліцензією до 01.01.2015 мають подати до НКЦПФР пакет документів згідно п. 2-13 ч. 2 ст. 27</a:t>
            </a:r>
            <a:r>
              <a:rPr b="0" lang="uk-UA" sz="29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 ЗУ «Про ЦП та ФР». </a:t>
            </a:r>
            <a:r>
              <a:rPr b="0" lang="uk-UA" sz="2900" spc="-1" strike="noStrike">
                <a:solidFill>
                  <a:srgbClr val="ffff00"/>
                </a:solidFill>
                <a:latin typeface="Arial"/>
              </a:rPr>
              <a:t>Неподання – підстава для застосування санкцій</a:t>
            </a: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779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87120" y="277920"/>
            <a:ext cx="6799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Ліцензування діяльності з торгівлі цінними папера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У «Про цінні папери та фондовий ринок», стаття 27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«Ліцензування професійної діяльності на фондовому ринку» та 27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«Підстави для відмови у видачі ліцензії 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0" y="33480"/>
            <a:ext cx="1779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19280" y="277920"/>
            <a:ext cx="7067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Порядок видачі ліцензій</a:t>
            </a:r>
            <a:br>
              <a:rPr sz="4400"/>
            </a:b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Стро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кщо ліцензіат має намір продовжувати діяльність після закінчення строку дії ліцензії, необхідно подати документи до НКЦПФР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не раніше, ніж за 6 мі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КЦПФР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має право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(але не зобов'язана) розглядати документи заявника 3 міс., а якщо серед власників є іноземні особи – 6 міс., повернення без розгляду – 1 мі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7920" y="34920"/>
            <a:ext cx="17794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92000" y="277920"/>
            <a:ext cx="6994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Порядок видачі ліцензій</a:t>
            </a:r>
            <a:br>
              <a:rPr sz="4400"/>
            </a:b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Пакет документі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Порядок та умови видачі ліцензії (Ріш. НКЦПФР № 817 від 14.05.2013 р.), п. 3 Розділу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Новостворені ТЦП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1 ліцензія (Б/Д/А/У) – повний пакет документі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2 або більше (Б+/Д+/А+/У) – одна заява на декілька видів + повний пак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34920" y="44280"/>
            <a:ext cx="1779480" cy="822600"/>
          </a:xfrm>
          <a:prstGeom prst="rect">
            <a:avLst/>
          </a:prstGeom>
          <a:ln w="0">
            <a:noFill/>
          </a:ln>
        </p:spPr>
      </p:pic>
      <p:sp>
        <p:nvSpPr>
          <p:cNvPr id="226" name="Стрелка вправо 3"/>
          <p:cNvSpPr/>
          <p:nvPr/>
        </p:nvSpPr>
        <p:spPr>
          <a:xfrm>
            <a:off x="6948360" y="5661000"/>
            <a:ext cx="1656000" cy="6476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6000" y="270000"/>
            <a:ext cx="7281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рядок видачі ліцензій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акет документі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Діючі ліцензіа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епозитарна устано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1, 2 або більше ліцензій ТЦП (Б+/Д+/А+/У) – скорочений пакет документі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Торговець цінними папера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, 2 або більше ліцензій ТЦП (Б+/Д+/А+/У) – скорочений пакет документі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0" y="46080"/>
            <a:ext cx="17794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92000" y="277920"/>
            <a:ext cx="6994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рядок видачі ліцензій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акет документі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Якщо ТЦП має діючі ліцензії, які отримав за скороченим пакетом, то для отримання ліцензії на інші види діяльності подається повний пакет документ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7640" y="54000"/>
            <a:ext cx="17794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Запитанн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2T09:22:31Z</dcterms:created>
  <dc:creator>sergey.lastivka</dc:creator>
  <dc:description/>
  <dc:language>en-US</dc:language>
  <cp:lastModifiedBy>Лапшова Елена</cp:lastModifiedBy>
  <dcterms:modified xsi:type="dcterms:W3CDTF">2013-07-12T06:29:08Z</dcterms:modified>
  <cp:revision>25</cp:revision>
  <dc:subject/>
  <dc:title>Процес підготовки проекту РА НКЦПФР</dc:title>
</cp:coreProperties>
</file>