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648-8D0D-4149-9EB1-6386889D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90E-CE60-4027-8114-4AF8A808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041-1435-4CCA-9E21-E97A5107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25F-DEEF-49C6-8073-1498D44D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72D-D11D-4078-8A59-3C5E28F5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1553-50EE-4A16-9E7E-DD32805A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2DDC-4A81-481E-96D6-366960C9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2439-02DF-4249-BFF5-E234E09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958B-B4EB-4069-B0AF-96BC921F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5140-5C02-4588-91EF-6D3A02F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217-77B0-4CF6-B3E0-59E2E1F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3AB-9253-44B8-BA39-03059D29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5F7-7C12-4DB0-BCC3-31FC083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4D3-0D1B-436C-B2F9-5FC4DEA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004-E771-426B-9863-65C0F22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38A-6CE0-461C-967C-57745A05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742-C3DC-47EA-9F9A-A99A0B10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1CF-C72C-4962-82F9-37D5A0B4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331-AE2A-4F0A-85AF-F88BE24F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0B0-8C7B-4245-B006-E904486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5DF-5447-4653-9262-4CC57B6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8C8-AE35-441C-B38D-EC752ED7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19E-D6AF-4A6E-8F2F-1452B03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789-2DBD-4877-9880-FCEAE83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6BC-7729-497F-9FD7-F6DB21133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80B-23D9-4DC8-8B3A-899279B9A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професійної діяльності в умовах нового законодав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900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4292640"/>
            <a:ext cx="367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Сальчук Оксана Анатоліївна</a:t>
            </a: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ступнику Директора Департаменту регулювання депозитарної та розрахунково-клірингової діяльності НКЦПФ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Порядку здійснення внутрішнього аудиту (контролю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банками не надається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276640"/>
            <a:ext cx="8642160" cy="360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має відповідати вимогам, встановленим Положенням про особливості організаці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проведення внутрішнього аудиту (контролю) в професійних учасниках фондового ринк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твердженим рішенням Національної комісії з цінних паперів та фондового ринку ві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9.07.2012 № 996 (крім банку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може містити такі розді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цілі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новні завдання та функції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инципи діяльності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татус і роль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ава та обов'язки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бсяги та напрями роботи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бов'язки посадової особи служби внутрішнього аудиту (контролю) із звітува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ординація діяльності з іншими службами ліцензі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ідзвітність служби внутрішнього аудиту (контролю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нутрішнього документу, що визначає систему управління ризик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банками не надається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349360"/>
            <a:ext cx="8642160" cy="3313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повинен містити, зокрем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значення видів ризиків, які виникають при провадженні депозитарної діяль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ок виявле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етоди вимірювання та оцінюва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ходи щодо зниження ризиків, що полягають у запобіганні та мінімізації впливу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ок та умови застосування відповідних заходів щодо зниже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ходи з моделювання та прогнозування процесів та майбутніх результатів діяльності особ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що провадить депозитарну діяльність, на основі аналізу інформації та оцінки ризикі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ій документ, що визначає систему управління ризиками при провадже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ої діяльності, має також відповідати вимогам Положення щодо пруденцій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ормативів професійної діяльності на фондовому ринку – депозитарної діяльності та вимо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 системи управління ризиками, затвердженого рішенням Національної комісії з цін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аперів та фондового ринку від 15.01.2013 № 3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Вимоги до структури власності заявник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50920" y="1197000"/>
            <a:ext cx="864216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 статутному капіталі депозитарної установи частка іншої депозитарно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станови, торговця цінними паперами або інституційного інвес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е повинна становити більше 5 відсот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3068640"/>
            <a:ext cx="8642160" cy="29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ституційними інвесторами є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інститути спільного інвестування (пайові та корпоративні інвестиційні фонд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інвестиційні фонд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взаємні фонди інвестиційних компані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недержавні пенсійні фонд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фонди банківського управлі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страхові компанії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ші фінансові установи, які здійснюють операції з фінансовими активами в інтересах треті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іб за власний рахунок чи за рахунок цих осіб, а у випадках, передбачених законодавством,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кож за рахунок залучених від інших осіб фінансових активів з метою отримання прибутк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бо збереження реальної вартості фінансових активі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277560"/>
            <a:ext cx="6707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ідстави для відмови у видачі ліцензії на провадження певного виду професійної діяльності на фондовому ринку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1052640"/>
            <a:ext cx="8713800" cy="39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КЦПФР відмовляє у видачі ліцензії на провадження певного виду професійної діяльност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а фондовому ринку, якщ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и, подані для видачі ліцензії, містять недостовірну інформацію та/або 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ідповідають вимогам законодав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) ділова репутація хоча б однієї посадової особи юридичної особи, яка має намір провади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офесійну діяльність на фондовому ринку, та/або керівника служби внутрішнього аудит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онтролю) та/або учасників (акціонерів) з істотною участю такої особи не відповідає вимогам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становленим Національною комісією з цінних паперів та фондового ринк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) структура власності юридичної особи не відповідає вимогам закону та нормативно-правов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ктів Національної комісії з цінних паперів та фондового ринк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4) організаційна структура, спеціалісти, необхідні для провадження професійної діяльності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фондовому ринку, або обладнання, комп'ютерна техніка, програмне забезпеченн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иміщення такої юридичної особи не відповідають вимогам, установленим Національно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ісією з цінних паперів та фондового рин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5445000"/>
            <a:ext cx="864216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 разі відмови у видачі ліцензії, реєстрації внутрішніх документів (змін до них) на підстав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явлення недостовірних даних у документах, поданих заявником на видачу ліцензії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реєстрацію внутрішніх документів (змін до них), він може подати до Комісії нову заяву п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дачу ліцензії, про реєстрацію внутрішніх документів (змін до них) не раніше ніж через тр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ісяці з дати прийняття рішення про відмову у видачі ліцензії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40000" y="277920"/>
            <a:ext cx="634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лишення заяви про видачу ліцензії без розгляду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50920" y="1484280"/>
            <a:ext cx="8713800" cy="46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ісія повертає заявнику заяву про видачу ліцензії та відповідні документи без розгляд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якщ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) заява підписана особою, яка не має на це повноважен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) документи, що додаються до заяви, оформлені з порушенням вимог, установлених ц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ком та умов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) наданий неповний перелік документів та/або не надана електронна форма, що надаєть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допомогою автоматизованої системи, розміщеної на офіційному веб-сайті Комісії згідно з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цими Порядком та умов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4) у Комісії на дату подання заяви про видачу ліцензії або у період її розгляду наявне судов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рішення, що забороняє видачу ліцензії заявнику, та/або постанова про відкриття виконавч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овадження щодо виконання такого ріше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5) відомостей про заявника немає в Єдиному державному реєстрі юридичних осіб і фізич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іб - підприємців або наявні відомості про перебування юридичної особи у стані припиненн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чи про державну реєстрацію її припинен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Запитанн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3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имоги до установчих документів</a:t>
            </a: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900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03280" y="1484280"/>
            <a:ext cx="677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5573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3500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484280"/>
            <a:ext cx="813744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становчі документи заявника повинні передбачати здійсне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го виду депозитарної діяль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357720"/>
            <a:ext cx="8137440" cy="115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казані вимоги до установчих документів набирають чинності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30 квітня 2014 рок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08000" y="26028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Приклад редакції установчих документів заявника</a:t>
            </a: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916280"/>
            <a:ext cx="8137800" cy="47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«Товариство може здійснювати такі види діяльност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епозитарну діяльність, а са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ерігання та обслуговування обігу цінних паперів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ахунках у цінних паперах та операці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емітента щодо випущених них цінних папер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депозитарну діяльність зберігача цінних папері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едення реєстрів власників іменних цінних папері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епозитарну діяльність депозитарної установ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іяльність із зберігання активів інститутів спільного інвесту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діяльність із зберігання активів пенсійних фонд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197000"/>
            <a:ext cx="813780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ат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2"/>
            <a:endCxn id="224" idx="0"/>
          </p:cNvCxnSpPr>
          <p:nvPr/>
        </p:nvCxnSpPr>
        <p:spPr>
          <a:xfrm>
            <a:off x="4608000" y="1628280"/>
            <a:ext cx="1080" cy="28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699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Вимоги щодо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08000" y="1052640"/>
            <a:ext cx="5400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в'язково підлягають сертифікації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2133720"/>
            <a:ext cx="4319640" cy="4390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За спеціалізацією депозитар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діяльність + діяльність 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управління активами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(виключно дл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осіб, що планують отрима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ліцензію на зберігання активів ІС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та/або зберігання активів ПФ)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1. Керівник підрозділу, якому надан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вноваження щодо здійсн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із зберігання активів ІСІ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берігання активів П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2. Фахівець в підрозділі, якому надан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вноваження щодо здійсн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із зберігання активі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ІСІ/ зберігання активів П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133720"/>
            <a:ext cx="4321080" cy="4390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За спеціалізацією депозитар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діяльніс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ерівні посадові особи депозитарної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станови (у тому числі банку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його відокремлених підрозділ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им надані повноваж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щодо провадження депозитарної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депозитарної устан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(Визначення керівних посадов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осіб згідно рішення ДКЦПФ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від 05.01.1999 року №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2. Фахівці депозитарної установ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її відокремлених та/аб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пеціалізованих структур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ідрозділів, які безпосереднь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дійснюють депозитарн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ість депозитарної устан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0" idx="0"/>
          </p:cNvCxnSpPr>
          <p:nvPr/>
        </p:nvCxnSpPr>
        <p:spPr>
          <a:xfrm flipH="1">
            <a:off x="2339280" y="1628280"/>
            <a:ext cx="226908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9" idx="2"/>
            <a:endCxn id="231" idx="0"/>
          </p:cNvCxnSpPr>
          <p:nvPr/>
        </p:nvCxnSpPr>
        <p:spPr>
          <a:xfrm>
            <a:off x="4608000" y="1628280"/>
            <a:ext cx="212508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416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я на здійснення депозитарної діяльності 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708280"/>
            <a:ext cx="3600360" cy="35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Небанківська уста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3 сертифікова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ахівців (у тому числ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ерівні посадові особ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2 фахівц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у тому числі кері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а особа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2708280"/>
            <a:ext cx="3600360" cy="35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4 сертифікова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ахівців (у тому числ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ерівні посадові особ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2 фахівц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у тому числі кері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а особа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6" idx="2"/>
            <a:endCxn id="237" idx="0"/>
          </p:cNvCxnSpPr>
          <p:nvPr/>
        </p:nvCxnSpPr>
        <p:spPr>
          <a:xfrm flipH="1">
            <a:off x="2555640" y="2349000"/>
            <a:ext cx="201816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6" idx="2"/>
            <a:endCxn id="238" idx="0"/>
          </p:cNvCxnSpPr>
          <p:nvPr/>
        </p:nvCxnSpPr>
        <p:spPr>
          <a:xfrm>
            <a:off x="4573440" y="2349000"/>
            <a:ext cx="201528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3452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ї на здійснення депозитарної діяльності ДУ та діяльності із зберігання активів ІС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44640"/>
            <a:ext cx="4321080" cy="4824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Небанківська уста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4 сертифікованих фахівці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у тому числі керівні посадові особи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спеціалізацією депозитар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ктивів ІСІ та фахівець у вказа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ідрозділі) повинні мати сертифіка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спеціалізацією – діяльність з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правління акт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садова особа) за спеціалізаціє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а 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активів ІС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фахівець у вказаному підрозділі) пови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ти 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1844640"/>
            <a:ext cx="4286520" cy="4824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5 сертифікованих фахівців (у т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числі керівні посадові особи) з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пеціалізацією депозитарна діяльність, 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ому числі 2 особи (керівник підрозділу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беріганню активів ІСІ та фахівець 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казаному підрозділі) повинні ма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садова особа) за спеціалізаціє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а 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активів ІС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фахівець у вказаному підрозділі) пови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ти 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3" idx="2"/>
            <a:endCxn id="244" idx="0"/>
          </p:cNvCxnSpPr>
          <p:nvPr/>
        </p:nvCxnSpPr>
        <p:spPr>
          <a:xfrm flipH="1">
            <a:off x="2410560" y="1483920"/>
            <a:ext cx="22345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3" idx="2"/>
            <a:endCxn id="245" idx="0"/>
          </p:cNvCxnSpPr>
          <p:nvPr/>
        </p:nvCxnSpPr>
        <p:spPr>
          <a:xfrm>
            <a:off x="4644720" y="1483920"/>
            <a:ext cx="2215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5628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ї на здійснення депозитарної діяльності ДУ, діяльності із зберігання активів ІСІ та зберігання активів П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916280"/>
            <a:ext cx="7704000" cy="44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5 сертифікованих фахівців (у тому числі керів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і особи) за спеціалізацією депозитарна діяльність,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ому числі 2 особи (керівник підрозділу по зберіганню актив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СІ та фахівець у вказаному підрозділі) повинні мати сертифіка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 спеціалізацією – діяльність з 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посадова особа)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пеціалізацією депозитарна діяльність, в тому числі 2 особи (керів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розділу по зберіганню активів ІСІ та фахівець у вказа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розділі) повинні мати сертифікати за спеціалізацією – діяльність 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0" idx="2"/>
            <a:endCxn id="251" idx="0"/>
          </p:cNvCxnSpPr>
          <p:nvPr/>
        </p:nvCxnSpPr>
        <p:spPr>
          <a:xfrm>
            <a:off x="4608000" y="148428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8000" y="277560"/>
            <a:ext cx="6778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Асоційовані особи – члени сім'ї фізичної особи - власника з істотною участю у заявника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9640" y="1125360"/>
            <a:ext cx="813780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Асоційована особа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- чоловік або дружина, прямі родичі особи (батьк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ати, діти, рідні брати та сестри, дід, баба, онуки), прямі родичі чолові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и дружини особи, чоловік або дружина прямого роди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2421000"/>
            <a:ext cx="81378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даток 7 заповнюється щодо асоційованих осіб прямих власник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стотної участі у заявника (ліцензіата), які є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3500280"/>
            <a:ext cx="251928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 або керівника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членами наглядової рад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ерівниками служ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ього аудиту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 заявнику (ліцензіаті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3500280"/>
            <a:ext cx="251928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 або керівника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членами наглядової рад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ерівниками служ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ього аудиту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 інших фінансов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станова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3500280"/>
            <a:ext cx="266364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в інших юридич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обах, які є пов'язан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обами відносно заяв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ліцензіат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6" idx="2"/>
            <a:endCxn id="258" idx="0"/>
          </p:cNvCxnSpPr>
          <p:nvPr/>
        </p:nvCxnSpPr>
        <p:spPr>
          <a:xfrm>
            <a:off x="4608000" y="3213000"/>
            <a:ext cx="108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H="1">
            <a:off x="1944000" y="3213000"/>
            <a:ext cx="266436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6" idx="2"/>
            <a:endCxn id="259" idx="0"/>
          </p:cNvCxnSpPr>
          <p:nvPr/>
        </p:nvCxnSpPr>
        <p:spPr>
          <a:xfrm>
            <a:off x="4608360" y="3213000"/>
            <a:ext cx="273600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1197000"/>
            <a:ext cx="8280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внутрішнє положення про депозитарну діяльність депозитарної устано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916280"/>
            <a:ext cx="8642160" cy="4681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Документ має містити, зокрем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організаційно-функціональну схему підрозділів депозитарної установи, яка повинна відобрази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авдання, що на них покладені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та форми вхідних та вихідних документі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приймання депоненті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умови та порядок відкриття та закриття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ідстави для відмови у відкритті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оформлення, подання та приймання розпоряджень і документів від депоненті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ідстави для відмови у прийманні розпоряджень до виконанн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надання депонентам виписок, довідок та іншої інформації, а також порядок обмін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відомленнями з депонентам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депозитарних операцій, що виконуються депозитарною установою та загальний поряд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їх проведення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та вартість послуг, що надаються депонентам (якщо це не вказано в окремо затверджен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тарифів депозитарної установ), який може містити розмір плати, зокрема, з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криття/закриття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несення змін до анкети рахунку в цінних папера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облік прав на цінні папер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идачу виписок з рахунка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ображення корпоративних операції емітента на рахунку у цінних паперах депонент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ведення операції блокування/розблокування цінних паперів на рахунку у цінних паперах депонент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ведення операції списання/зарахування/переказу прав на цінні папери на рахунку у цінн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аперах депонен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обслуговування активів ІСІ та НПФ (за наявності відповідних ліцензі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Внутрішнього положення про депозитарну діяльність депозитарної устано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12:02:57Z</dcterms:created>
  <dc:creator>sergey.lastivka</dc:creator>
  <dc:description/>
  <dc:language>en-US</dc:language>
  <cp:lastModifiedBy>sergey.lastivka</cp:lastModifiedBy>
  <dcterms:modified xsi:type="dcterms:W3CDTF">2013-07-10T14:42:36Z</dcterms:modified>
  <cp:revision>11</cp:revision>
  <dc:subject/>
  <dc:title>Компенсаторні механізми у процесі затвердження Правил та внутрішніх документів ЦД</dc:title>
</cp:coreProperties>
</file>